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B6E-D3C4-4A77-921B-14B989CB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B81-ED3B-4DA7-A4FD-529E1795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352-9ADD-4580-B47D-30740FCD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A53-32F9-4598-A534-04DE4BB9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3C582-5420-4288-8EDB-74C6D98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87B6-B66E-466E-9FD8-06F380DA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517B6-E3F7-4B0D-A0E2-8184802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CBF8D-F6F8-4DC0-B931-194AE40F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8854-5E74-48B8-BFFF-15237FC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6237-86D0-4A78-BFF7-4F1B967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CC39D-E5CF-4C52-AAA1-E0C7101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3F3-F5EC-4171-B2FF-7ACB6EBD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1BF04-4B26-47F9-A2A0-19B2E73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97A4-75D2-497A-8D0D-09676CC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7D04-88EC-4A92-AB20-675A5E7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CA298-CAFA-475D-A41B-7CEF12B3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6AFB-99B1-4E98-94EB-B15F6601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975-0920-41C9-8744-2FBFB576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D50-264D-483F-B345-5B2636E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C87-2F31-4F8E-9B30-25EBBFF9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BBA-5BF0-4BE2-9C79-F868678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28A-BEE7-4426-9286-5A6A6EF2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2C6-00AF-45CE-ABD8-6EC5F0F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A55-4C26-4B13-9CA6-9DE1EE9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0C5C-998C-4A14-B616-82BB7DA7607C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09E0-43BE-44C5-8F11-782C6A4AE495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9680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fffff"/>
                </a:solidFill>
                <a:latin typeface="Monotype Corsiva"/>
              </a:rPr>
              <a:t>MÁM PRO TEBE           10 RŮŽÍ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5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0000"/>
                </a:solidFill>
                <a:latin typeface="Monotype Corsiva"/>
              </a:rPr>
              <a:t>Tahle je pro šťastnou rodin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057400" y="2133720"/>
            <a:ext cx="5257800" cy="400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ba3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8000"/>
                </a:solidFill>
                <a:latin typeface="Monotype Corsiva"/>
              </a:rPr>
              <a:t>Tato růže je pro čestnost a stat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2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4157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A tahle poslední Ti přeje dlouhý živo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&quot;Gentle Blossom&quot; © Byron W. Moore / Roma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981080"/>
            <a:ext cx="6095880" cy="4267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cc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700" spc="-1" strike="noStrike">
                <a:solidFill>
                  <a:srgbClr val="ffff00"/>
                </a:solidFill>
                <a:latin typeface="Monotype Corsiva"/>
              </a:rPr>
              <a:t>Buď láskyplný a přej to nejkrásnější všem,                   které máš rád… i mně na Tobě záleží…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143000" y="16002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ff6600"/>
                </a:solidFill>
                <a:latin typeface="Arial Black"/>
              </a:rPr>
              <a:t>www.vesmirni-lide.c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7"/>
            </a:gs>
            <a:gs pos="100000">
              <a:srgbClr val="feca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6000" spc="-1" strike="noStrike">
                <a:solidFill>
                  <a:srgbClr val="00c600"/>
                </a:solidFill>
                <a:latin typeface="Monotype Corsiva"/>
              </a:rPr>
              <a:t>Jsou kouzelné                      a                                  krásně voní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b3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cc0000"/>
                </a:solidFill>
                <a:latin typeface="Monotype Corsiva"/>
              </a:rPr>
              <a:t>Růže vyzařující </a:t>
            </a:r>
            <a:r>
              <a:rPr b="0" i="1" lang="cs-CZ" sz="44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p</a:t>
            </a:r>
            <a:r>
              <a:rPr b="0" i="1" lang="cs-CZ" sz="4400" spc="-1" strike="noStrike">
                <a:solidFill>
                  <a:srgbClr val="cc0000"/>
                </a:solidFill>
                <a:latin typeface="Monotype Corsiva"/>
              </a:rPr>
              <a:t>řátelství</a:t>
            </a:r>
            <a:r>
              <a:rPr b="0" lang="cs-CZ" sz="44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88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92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ffcc00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ffffff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&quot;Rose Dew, Coos County, Oregon&quot; © Wood Sabol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2190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00c600"/>
                </a:solidFill>
                <a:latin typeface="Monotype Corsiva"/>
              </a:rPr>
              <a:t>Pro lásku, která mnohdy scház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&quot;Prime of Life&quot; © Roma St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73844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dd2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&quot;Rosebud&quot; © Rob Per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097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Jedna pro štěstí a vnitřní krás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e7dd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Tahle růže naplní Tě bohatství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&quot;Hope Blooms&quot; © SuperStock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9670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3"/>
            </a:gs>
            <a:gs pos="100000">
              <a:srgbClr val="ffd5d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6600"/>
                </a:solidFill>
                <a:latin typeface="Monotype Corsiva"/>
              </a:rPr>
              <a:t>Růže pro popularit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&quot;Birthday Roses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e9f2"/>
            </a:gs>
            <a:gs pos="100000">
              <a:srgbClr val="beb6b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c600"/>
                </a:solidFill>
                <a:latin typeface="Monotype Corsiva"/>
              </a:rPr>
              <a:t>Tahle Ti dá věčnou moudr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&quot;True Love Forever&quot; © SuperStock, Inc."/>
          <p:cNvPicPr/>
          <p:nvPr/>
        </p:nvPicPr>
        <p:blipFill>
          <a:blip r:embed="rId1"/>
          <a:stretch/>
        </p:blipFill>
        <p:spPr>
          <a:xfrm>
            <a:off x="1905120" y="20239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d5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c600"/>
                </a:solidFill>
                <a:latin typeface="Monotype Corsiva"/>
              </a:rPr>
              <a:t>Také jedna růže pro sladkou něh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&quot;Frosted English Rose&quot; © The Image Bank"/>
          <p:cNvPicPr/>
          <p:nvPr/>
        </p:nvPicPr>
        <p:blipFill>
          <a:blip r:embed="rId1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Augustin</cp:lastModifiedBy>
  <dcterms:modified xsi:type="dcterms:W3CDTF">2003-02-01T16:03:34Z</dcterms:modified>
  <cp:revision>51</cp:revision>
  <dc:subject/>
  <dc:title>Mots d’enfants</dc:title>
</cp:coreProperties>
</file>