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chimes.wav" ContentType="audio/x-wav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51D2-02F9-4DBC-A301-F1D58C84B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FAE6-2B63-4E74-88C1-59849FFB2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8D53-9C12-4327-BDF5-CDD9745C8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5BEB-77B3-40F6-8083-BE03ED066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75A607-5200-4689-B077-371280E02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26B3D4-DBF8-456A-B55B-E6A6DE78D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6CAA06-31A3-4CE0-B65B-39D3B1FCE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69C17B-67C9-4113-A9AF-2C0F3B75E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3F71FA-AE35-4D7E-8A6D-FA360E7BA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A81D0C-B7FC-475D-BC97-16E4D2072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F8A52E-2C3D-4604-BD98-5418FADA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FDD2-0866-4273-9EB7-7AE2AF544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7DBB63-1270-427E-BCBE-8BFBEE5DA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DC5828-5C69-4092-ABD2-8089B4B31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BBA5AD-CA38-483F-8C83-0732CCD26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C94E77-ED18-4E28-8CF0-566FB7FE4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72CEC0-30BD-4461-B503-6DB575340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6B9F-C108-48A7-B333-D325D58CB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9A84-DB60-4FF3-A311-5B146131A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D141-7F38-4544-9DB0-726C446CC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DECA-14C5-4B7C-8998-C34D0379D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2591-2BFE-4E59-9BB4-F6A114BCD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96F3-49A8-414E-B03F-C8B4A97A2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C305-80AF-443E-83C8-E9C75C4C2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162E5-ADEB-4EB1-856B-BBE7998BF53A}" type="slidenum">
              <a:rPr b="0" lang="sk-SK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2B34A-CA03-4C4E-9D66-D8F0F5B8DF63}" type="slidenum">
              <a:rPr b="0" lang="sk-SK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webshots.com/scripts/PhotoDownload.fcgi?targetmode=&amp;photos=19013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webshots.com/g/66/495-sh/2237.html" TargetMode="External"/><Relationship Id="rId2" Type="http://schemas.openxmlformats.org/officeDocument/2006/relationships/hyperlink" Target="http://www.webshots.com/g/66/495-sh/2237.html" TargetMode="External"/><Relationship Id="rId3" Type="http://schemas.openxmlformats.org/officeDocument/2006/relationships/hyperlink" Target="http://images.webshots.com/scripts/PhotoDownload.fcgi?targetmode=&amp;photos=2237" TargetMode="External"/><Relationship Id="rId4" Type="http://schemas.openxmlformats.org/officeDocument/2006/relationships/hyperlink" Target="http://images.webshots.com/scripts/PhotoDownload.fcgi?targetmode=&amp;photos=2237" TargetMode="External"/><Relationship Id="rId5" Type="http://schemas.openxmlformats.org/officeDocument/2006/relationships/hyperlink" Target="http://images.webshots.com/scripts/PhotoDownload.fcgi?targetmode=&amp;photos=2237" TargetMode="External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webshots.com/scripts/PhotoDownload.fcgi?targetmode=&amp;photos=19360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webshots.com/scripts/PhotoDownload.fcgi?targetmode=&amp;photos=502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webshots.com/scripts/PhotoDownload.fcgi?targetmode=&amp;photos=21101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webshots.com/scripts/PhotoDownload.fcgi?targetmode=&amp;photos=6376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96800"/>
            <a:ext cx="77724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6000" spc="-1" strike="noStrike">
                <a:solidFill>
                  <a:srgbClr val="ffffff"/>
                </a:solidFill>
                <a:latin typeface="Monotype Corsiva"/>
              </a:rPr>
              <a:t>MÁM PRO TEBE           10 RŮŽÍ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ff5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cc0000"/>
                </a:solidFill>
                <a:latin typeface="Monotype Corsiva"/>
              </a:rPr>
              <a:t>Tahle je pro šťastnou rodinu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" descr="&quot;Sensuous Beauties&quot; © SuperStock, Inc."/>
          <p:cNvPicPr/>
          <p:nvPr/>
        </p:nvPicPr>
        <p:blipFill>
          <a:blip r:embed="rId1"/>
          <a:stretch/>
        </p:blipFill>
        <p:spPr>
          <a:xfrm>
            <a:off x="2057400" y="2133720"/>
            <a:ext cx="5257800" cy="4005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fba3"/>
            </a:gs>
            <a:gs pos="100000">
              <a:srgbClr val="00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8000"/>
                </a:solidFill>
                <a:latin typeface="Monotype Corsiva"/>
              </a:rPr>
              <a:t>Tato růže je pro čestnost a statečnos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371600" y="2206800"/>
            <a:ext cx="6400800" cy="2393640"/>
            <a:chOff x="1371600" y="2206800"/>
            <a:chExt cx="6400800" cy="2393640"/>
          </a:xfrm>
        </p:grpSpPr>
        <p:sp>
          <p:nvSpPr>
            <p:cNvPr id="120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fr-CA" sz="151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ffffff"/>
                  </a:solidFill>
                  <a:latin typeface="Times New Roman"/>
                </a:rPr>
                <a:t>                                         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22" name="" descr="&quot;English Roses&quot; © The Image Bank"/>
          <p:cNvPicPr/>
          <p:nvPr/>
        </p:nvPicPr>
        <p:blipFill>
          <a:blip r:embed="rId1"/>
          <a:stretch/>
        </p:blipFill>
        <p:spPr>
          <a:xfrm>
            <a:off x="1295280" y="1981080"/>
            <a:ext cx="6629400" cy="41576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ff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6600"/>
                </a:solidFill>
                <a:latin typeface="Monotype Corsiva"/>
              </a:rPr>
              <a:t>A tahle poslední Ti přeje dlouhý živo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&quot;Gentle Blossom&quot; © Byron W. Moore / Roma Sto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00200" y="1981080"/>
            <a:ext cx="6095880" cy="42674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ccff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700" spc="-1" strike="noStrike">
                <a:solidFill>
                  <a:srgbClr val="ffff00"/>
                </a:solidFill>
                <a:latin typeface="Monotype Corsiva"/>
              </a:rPr>
              <a:t>Buď láskyplný a přej to nejkrásnější všem,                   které máš rád… i mně na Tobě záleží…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" descr="&quot;Rose Bridal Bouquet&quot; © SuperStock, Inc."/>
          <p:cNvPicPr/>
          <p:nvPr/>
        </p:nvPicPr>
        <p:blipFill>
          <a:blip r:embed="rId1"/>
          <a:stretch/>
        </p:blipFill>
        <p:spPr>
          <a:xfrm>
            <a:off x="1143000" y="1600200"/>
            <a:ext cx="6705720" cy="48006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2997000"/>
            <a:ext cx="91440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5400" spc="-1" strike="noStrike">
                <a:solidFill>
                  <a:srgbClr val="ff6600"/>
                </a:solidFill>
                <a:latin typeface="Arial Black"/>
              </a:rPr>
              <a:t>www.vesmirni-lide.cz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4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a7"/>
            </a:gs>
            <a:gs pos="100000">
              <a:srgbClr val="fecac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6000" spc="-1" strike="noStrike">
                <a:solidFill>
                  <a:srgbClr val="00c600"/>
                </a:solidFill>
                <a:latin typeface="Monotype Corsiva"/>
              </a:rPr>
              <a:t>Jsou kouzelné                      a                                  krásně voní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5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ffb3b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cc0000"/>
                </a:solidFill>
                <a:latin typeface="Monotype Corsiva"/>
              </a:rPr>
              <a:t>Růže vyzařující </a:t>
            </a:r>
            <a:r>
              <a:rPr b="0" i="1" lang="cs-CZ" sz="4400" spc="-1" strike="noStrike">
                <a:solidFill>
                  <a:srgbClr val="cc0000"/>
                </a:solidFill>
                <a:latin typeface="Monotype Corsiva"/>
                <a:ea typeface="Times New Roman"/>
              </a:rPr>
              <a:t>p</a:t>
            </a:r>
            <a:r>
              <a:rPr b="0" i="1" lang="cs-CZ" sz="4400" spc="-1" strike="noStrike">
                <a:solidFill>
                  <a:srgbClr val="cc0000"/>
                </a:solidFill>
                <a:latin typeface="Monotype Corsiva"/>
              </a:rPr>
              <a:t>řátelství</a:t>
            </a:r>
            <a:r>
              <a:rPr b="0" lang="cs-CZ" sz="4400" spc="-1" strike="noStrike">
                <a:solidFill>
                  <a:srgbClr val="cc0000"/>
                </a:solidFill>
                <a:latin typeface="Monotype Corsiv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0" y="293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2362320" y="2895480"/>
            <a:ext cx="4342680" cy="2133000"/>
            <a:chOff x="2362320" y="2895480"/>
            <a:chExt cx="4342680" cy="2133000"/>
          </a:xfrm>
        </p:grpSpPr>
        <p:sp>
          <p:nvSpPr>
            <p:cNvPr id="88" name=""/>
            <p:cNvSpPr/>
            <p:nvPr/>
          </p:nvSpPr>
          <p:spPr>
            <a:xfrm>
              <a:off x="2362320" y="28954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362320" y="2895480"/>
              <a:ext cx="4342680" cy="21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 u="sng">
                  <a:solidFill>
                    <a:srgbClr val="ffcc00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fr-CA" sz="59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ffffff"/>
                  </a:solidFill>
                  <a:latin typeface="Times New Roman"/>
                </a:rPr>
                <a:t>               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0" y="293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3276720" y="2932200"/>
            <a:ext cx="2128320" cy="1791720"/>
            <a:chOff x="3276720" y="2932200"/>
            <a:chExt cx="2128320" cy="1791720"/>
          </a:xfrm>
        </p:grpSpPr>
        <p:sp>
          <p:nvSpPr>
            <p:cNvPr id="92" name=""/>
            <p:cNvSpPr/>
            <p:nvPr/>
          </p:nvSpPr>
          <p:spPr>
            <a:xfrm>
              <a:off x="3276720" y="2932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276720" y="2932200"/>
              <a:ext cx="2128320" cy="179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 u="sng">
                  <a:solidFill>
                    <a:srgbClr val="ffcc00"/>
                  </a:solidFill>
                  <a:uFillTx/>
                  <a:latin typeface="Times New Roman"/>
                  <a:hlinkClick r:id="rId2"/>
                </a:rPr>
                <a:t>  </a:t>
              </a:r>
              <a:r>
                <a:rPr b="0" lang="fr-CA" sz="59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ffffff"/>
                  </a:solidFill>
                  <a:latin typeface="Times New Roman"/>
                </a:rPr>
                <a:t>    </a:t>
              </a:r>
              <a:r>
                <a:rPr b="0" lang="fr-CA" sz="2400" spc="-1" strike="noStrike" u="sng">
                  <a:solidFill>
                    <a:srgbClr val="ffcc00"/>
                  </a:solidFill>
                  <a:uFillTx/>
                  <a:latin typeface="Times New Roman"/>
                  <a:hlinkClick r:id="rId3"/>
                </a:rPr>
                <a:t> </a:t>
              </a:r>
              <a:r>
                <a:rPr b="0" lang="fr-CA" sz="2400" spc="-1" strike="noStrike">
                  <a:solidFill>
                    <a:srgbClr val="ffffff"/>
                  </a:solidFill>
                  <a:latin typeface="Times New Roman"/>
                </a:rPr>
                <a:t>     </a:t>
              </a:r>
              <a:r>
                <a:rPr b="0" lang="fr-CA" sz="2400" spc="-1" strike="noStrike" u="sng">
                  <a:solidFill>
                    <a:srgbClr val="ffcc00"/>
                  </a:solidFill>
                  <a:uFillTx/>
                  <a:latin typeface="Times New Roman"/>
                  <a:hlinkClick r:id="rId4"/>
                </a:rPr>
                <a:t> </a:t>
              </a:r>
              <a:r>
                <a:rPr b="0" lang="fr-CA" sz="2400" spc="-1" strike="noStrike">
                  <a:solidFill>
                    <a:srgbClr val="ffffff"/>
                  </a:solidFill>
                  <a:latin typeface="Times New Roman"/>
                </a:rPr>
                <a:t>      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" descr="&quot;Rose Dew, Coos County, Oregon&quot; © Wood Sabold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676520" y="2190600"/>
            <a:ext cx="5638680" cy="42292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66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00c600"/>
                </a:solidFill>
                <a:latin typeface="Monotype Corsiva"/>
              </a:rPr>
              <a:t>Pro lásku, která mnohdy schází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" descr="&quot;Prime of Life&quot; © Roma Sto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28800" y="1738440"/>
            <a:ext cx="5867280" cy="44002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dd2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&quot;Rosebud&quot; © Rob Perr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52480" y="1809720"/>
            <a:ext cx="5791320" cy="43434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6600"/>
                </a:solidFill>
                <a:latin typeface="Monotype Corsiva"/>
              </a:rPr>
              <a:t>Jedna pro štěstí a vnitřní krásu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5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cf3"/>
            </a:gs>
            <a:gs pos="100000">
              <a:srgbClr val="e7dde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6600"/>
                </a:solidFill>
                <a:latin typeface="Monotype Corsiva"/>
              </a:rPr>
              <a:t>Tahle růže naplní Tě bohatství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&quot;Hope Blooms&quot; © SuperStock, Inc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81080" y="1967040"/>
            <a:ext cx="5334120" cy="40003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cf3"/>
            </a:gs>
            <a:gs pos="100000">
              <a:srgbClr val="ffd5d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6600"/>
                </a:solidFill>
                <a:latin typeface="Monotype Corsiva"/>
              </a:rPr>
              <a:t>Růže pro popularitu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" descr="&quot;Birthday Roses&quot; © The Image Ban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57400" y="2252520"/>
            <a:ext cx="5181480" cy="38862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e9f2"/>
            </a:gs>
            <a:gs pos="100000">
              <a:srgbClr val="beb6b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c600"/>
                </a:solidFill>
                <a:latin typeface="Monotype Corsiva"/>
              </a:rPr>
              <a:t>Tahle Ti dá věčnou moudros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" descr="&quot;True Love Forever&quot; © SuperStock, Inc."/>
          <p:cNvPicPr/>
          <p:nvPr/>
        </p:nvPicPr>
        <p:blipFill>
          <a:blip r:embed="rId1"/>
          <a:stretch/>
        </p:blipFill>
        <p:spPr>
          <a:xfrm>
            <a:off x="1905120" y="2023920"/>
            <a:ext cx="5410080" cy="40579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6d5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c600"/>
                </a:solidFill>
                <a:latin typeface="Monotype Corsiva"/>
              </a:rPr>
              <a:t>Také jedna růže pro sladkou něhu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&quot;Frosted English Rose&quot; © The Image Bank"/>
          <p:cNvPicPr/>
          <p:nvPr/>
        </p:nvPicPr>
        <p:blipFill>
          <a:blip r:embed="rId1"/>
          <a:stretch/>
        </p:blipFill>
        <p:spPr>
          <a:xfrm>
            <a:off x="1905120" y="2081160"/>
            <a:ext cx="5333760" cy="40006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2T04:20:31Z</dcterms:created>
  <dc:creator>Sylvie Simoneau</dc:creator>
  <dc:description/>
  <dc:language>en-US</dc:language>
  <cp:lastModifiedBy>Augustin</cp:lastModifiedBy>
  <dcterms:modified xsi:type="dcterms:W3CDTF">2003-02-01T16:03:34Z</dcterms:modified>
  <cp:revision>51</cp:revision>
  <dc:subject/>
  <dc:title>Mots d’enfants</dc:title>
</cp:coreProperties>
</file>