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CEE-F6CE-4C46-ABA6-1884AC75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A10-7D6F-4A13-B593-FAB5958B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C81-6007-49A8-817E-547749AF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90D-D8F0-48E8-BC74-7E45C311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3F2-DC39-417B-B5A2-3FA876D1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45A-BAD6-4AA4-A777-BC32B441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1F9-032A-4971-9E06-B9749E7C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4EF-B194-46E0-9F08-9B9F8C7E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107-0262-4D14-99E8-0B5AF2FC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15C-EF7F-4818-9A6D-4B983AC3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115-1783-477D-9FC5-19D1C0A4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859-5B5B-41CA-8DB8-57735D4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6D8-DA91-4F67-A5D0-ABEA5F870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96280" y="685800"/>
            <a:ext cx="48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ffff00"/>
                </a:solidFill>
                <a:latin typeface="Arial L2"/>
              </a:rPr>
              <a:t>www.universe-people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59400" y="1676520"/>
            <a:ext cx="52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 L2"/>
              </a:rPr>
              <a:t>www.universe-peopl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5360" y="2666880"/>
            <a:ext cx="661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Arial"/>
              </a:rPr>
              <a:t>Skutečným smyslem zrození v lidském těle</a:t>
            </a:r>
            <a:br>
              <a:rPr sz="2400"/>
            </a:br>
            <a:r>
              <a:rPr b="1" lang="cs-CZ" sz="2400" spc="-1" strike="noStrike">
                <a:solidFill>
                  <a:srgbClr val="3333cc"/>
                </a:solidFill>
                <a:latin typeface="Arial"/>
              </a:rPr>
              <a:t>je dojít k poznání Boha,</a:t>
            </a:r>
            <a:br>
              <a:rPr sz="2400"/>
            </a:br>
            <a:r>
              <a:rPr b="1" lang="cs-CZ" sz="2400" spc="-1" strike="noStrike">
                <a:solidFill>
                  <a:srgbClr val="3333cc"/>
                </a:solidFill>
                <a:latin typeface="Arial"/>
              </a:rPr>
              <a:t>a pokud se prostě obrátíme k Bohu,</a:t>
            </a:r>
            <a:br>
              <a:rPr sz="2400"/>
            </a:br>
            <a:r>
              <a:rPr b="1" lang="cs-CZ" sz="2400" spc="-1" strike="noStrike">
                <a:solidFill>
                  <a:srgbClr val="3333cc"/>
                </a:solidFill>
                <a:latin typeface="Arial"/>
              </a:rPr>
              <a:t>zjistíme, že na nás Bůh čekal po celou dob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42200" y="556272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L2"/>
              </a:rPr>
              <a:t>VÍTAJÍ VÁS VESMÍRNÍ LID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441972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Futura XBlk BT"/>
              </a:rPr>
              <a:t>…</a:t>
            </a:r>
            <a:r>
              <a:rPr b="1" i="1" lang="cs-CZ" sz="6000" spc="-1" strike="noStrike">
                <a:solidFill>
                  <a:srgbClr val="ff3300"/>
                </a:solidFill>
                <a:latin typeface="Futura XBlk BT"/>
              </a:rPr>
              <a:t> </a:t>
            </a:r>
            <a:r>
              <a:rPr b="1" i="1" lang="cs-CZ" sz="6000" spc="-1" strike="noStrike">
                <a:solidFill>
                  <a:srgbClr val="ff3300"/>
                </a:solidFill>
                <a:latin typeface="Futura XBlk BT"/>
              </a:rPr>
              <a:t>ŠTĚSTÍ</a:t>
            </a:r>
            <a:r>
              <a:rPr b="1" i="1" lang="en-US" sz="6000" spc="-1" strike="noStrike">
                <a:solidFill>
                  <a:srgbClr val="ff3300"/>
                </a:solidFill>
                <a:latin typeface="Futura XBlk BT"/>
              </a:rPr>
              <a:t> ...!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8440" y="557280"/>
            <a:ext cx="733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... pochopit, že dva lidé se mohou</a:t>
            </a:r>
            <a:br>
              <a:rPr sz="3600"/>
            </a:b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dívat na stejnou věc a vidět ji</a:t>
            </a:r>
            <a:br>
              <a:rPr sz="3600"/>
            </a:b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 naprosto odlišně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23200" y="4672080"/>
            <a:ext cx="68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... pochopit, že nestačí jen, aby</a:t>
            </a:r>
            <a:br>
              <a:rPr sz="3600"/>
            </a:b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jim odpustili jiní, ale také aby</a:t>
            </a:r>
            <a:br>
              <a:rPr sz="3600"/>
            </a:b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ony odpustily samy sobě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657600"/>
            <a:ext cx="83059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00"/>
                </a:solidFill>
                <a:latin typeface="Arial Rounded MT Bold"/>
              </a:rPr>
              <a:t>... uvěřit, že</a:t>
            </a:r>
            <a:r>
              <a:rPr b="1" i="1" lang="en-US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i="1" lang="cs-CZ" sz="3600" spc="-1" strike="noStrike">
                <a:solidFill>
                  <a:srgbClr val="ffff00"/>
                </a:solidFill>
                <a:latin typeface="Arial Rounded MT Bold"/>
              </a:rPr>
              <a:t>já jsem zde </a:t>
            </a:r>
            <a:br>
              <a:rPr sz="3600"/>
            </a:br>
            <a:br>
              <a:rPr sz="3600"/>
            </a:br>
            <a:r>
              <a:rPr b="1" i="1" lang="en-US" sz="6600" spc="-1" strike="noStrike">
                <a:solidFill>
                  <a:srgbClr val="ffff00"/>
                </a:solidFill>
                <a:latin typeface="Arial Rounded MT Bold"/>
              </a:rPr>
              <a:t>– </a:t>
            </a:r>
            <a:r>
              <a:rPr b="1" i="1" lang="cs-CZ" sz="6600" spc="-1" strike="noStrike">
                <a:solidFill>
                  <a:srgbClr val="ffff00"/>
                </a:solidFill>
                <a:latin typeface="Arial Rounded MT Bold"/>
              </a:rPr>
              <a:t>NAVĚKY – </a:t>
            </a:r>
            <a:r>
              <a:rPr b="1" i="1" lang="cs-CZ" sz="36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1720" y="457200"/>
            <a:ext cx="77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cc00"/>
                </a:solidFill>
                <a:latin typeface="Arial L2"/>
              </a:rPr>
              <a:t>Zdálo se mi, že jsem měl rozhovor s Bohem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2952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 L2"/>
              </a:rPr>
              <a:t>„</a:t>
            </a:r>
            <a:r>
              <a:rPr b="1" i="1" lang="cs-CZ" sz="2800" spc="-1" strike="noStrike">
                <a:solidFill>
                  <a:srgbClr val="ffff00"/>
                </a:solidFill>
                <a:latin typeface="Arial L2"/>
              </a:rPr>
              <a:t>Takže, Ty bys se mnou rád mluvil ...“</a:t>
            </a:r>
            <a:r>
              <a:rPr b="1" i="1" lang="en-US" sz="2800" spc="-1" strike="noStrike">
                <a:solidFill>
                  <a:srgbClr val="ffff00"/>
                </a:solidFill>
                <a:latin typeface="Arial L2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Arial L2"/>
              </a:rPr>
              <a:t>zeptal se Bůh</a:t>
            </a:r>
            <a:r>
              <a:rPr b="1" i="1" lang="en-US" sz="2800" spc="-1" strike="noStrike">
                <a:solidFill>
                  <a:srgbClr val="ffff00"/>
                </a:solidFill>
                <a:latin typeface="Arial L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54120" y="259092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cff"/>
                </a:solidFill>
                <a:latin typeface="Arial L2"/>
              </a:rPr>
              <a:t>„</a:t>
            </a:r>
            <a:r>
              <a:rPr b="1" i="1" lang="cs-CZ" sz="2800" spc="-1" strike="noStrike">
                <a:solidFill>
                  <a:srgbClr val="ffccff"/>
                </a:solidFill>
                <a:latin typeface="Arial L2"/>
              </a:rPr>
              <a:t>Pokud máš čas ...“ odpověděl js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 L2"/>
              </a:rPr>
              <a:t>Bůh se usmál : „Můj čas je věčnost – na co by ses mne chtěl zeptat ?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5160" y="601992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 L2"/>
              </a:rPr>
              <a:t>„</a:t>
            </a:r>
            <a:r>
              <a:rPr b="1" i="1" lang="cs-CZ" sz="2800" spc="-1" strike="noStrike">
                <a:solidFill>
                  <a:srgbClr val="ff0000"/>
                </a:solidFill>
                <a:latin typeface="Arial L2"/>
              </a:rPr>
              <a:t>Co Tě nejvíce překvapuje na lidech ?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rtsunbrea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251460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 L2"/>
              </a:rPr>
              <a:t>Bůh odpověděl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152280"/>
            <a:ext cx="8153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i="1" lang="cs-CZ" sz="3000" spc="-1" strike="noStrike">
                <a:solidFill>
                  <a:srgbClr val="000000"/>
                </a:solidFill>
                <a:latin typeface="Arial L2"/>
              </a:rPr>
              <a:t>To, že jak usilovně </a:t>
            </a:r>
            <a:r>
              <a:rPr b="1" i="1" lang="en-US" sz="3000" spc="-1" strike="noStrike">
                <a:solidFill>
                  <a:srgbClr val="000000"/>
                </a:solidFill>
                <a:latin typeface="Arial L2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Arial L2"/>
              </a:rPr>
              <a:t>přemýšlejí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 L2"/>
              </a:rPr>
              <a:t>o budoucnosti, zapomínají na přítomnost, a tak vlastně nežijí ani v současnosti a an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 L2"/>
              </a:rPr>
              <a:t>v budoucnosti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09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 L2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Arial L2"/>
              </a:rPr>
              <a:t>... že žijí jako by neměli nikdy umřít a umírají, jako by nikdy ani nežili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352680"/>
            <a:ext cx="8991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cc00"/>
                </a:solidFill>
                <a:latin typeface="Arial L2"/>
              </a:rPr>
              <a:t>	</a:t>
            </a:r>
            <a:r>
              <a:rPr b="1" i="1" lang="cs-CZ" sz="3000" spc="-1" strike="noStrike">
                <a:solidFill>
                  <a:srgbClr val="00cc00"/>
                </a:solidFill>
                <a:latin typeface="Arial L2"/>
              </a:rPr>
              <a:t>... že jsou brzy znuděni dětstvím a spěchají do dospělosti, a potom se opět touží vráti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cc00"/>
                </a:solidFill>
                <a:latin typeface="Arial L2"/>
              </a:rPr>
              <a:t>do dětství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952880"/>
            <a:ext cx="8915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Arial L2"/>
              </a:rPr>
              <a:t>	</a:t>
            </a:r>
            <a:r>
              <a:rPr b="1" i="1" lang="cs-CZ" sz="3000" spc="-1" strike="noStrike">
                <a:solidFill>
                  <a:srgbClr val="0000cc"/>
                </a:solidFill>
                <a:latin typeface="Arial L2"/>
              </a:rPr>
              <a:t>... že přicházejí o zdraví při shromažďování bohatství a potom přicházejí o bohatství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cc"/>
                </a:solidFill>
                <a:latin typeface="Arial L2"/>
              </a:rPr>
              <a:t>ve snaze si zdraví opět spravit ..</a:t>
            </a:r>
            <a:r>
              <a:rPr b="1" i="1" lang="en-US" sz="3000" spc="-1" strike="noStrike">
                <a:solidFill>
                  <a:srgbClr val="0000cc"/>
                </a:solidFill>
                <a:latin typeface="Arial L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77320" y="210960"/>
            <a:ext cx="716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 L2"/>
              </a:rPr>
              <a:t>Bůh mne uchopil za ruku, chvíli jsme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 L2"/>
              </a:rPr>
              <a:t>mlčeli a potom </a:t>
            </a:r>
            <a:r>
              <a:rPr b="1" i="1" lang="en-US" sz="3200" spc="-1" strike="noStrike">
                <a:solidFill>
                  <a:srgbClr val="000000"/>
                </a:solidFill>
                <a:latin typeface="Arial L2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 L2"/>
              </a:rPr>
              <a:t>jsem se zepta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cc"/>
                </a:solidFill>
                <a:latin typeface="Arial L2"/>
              </a:rPr>
              <a:t>„</a:t>
            </a:r>
            <a:r>
              <a:rPr b="1" i="1" lang="cs-CZ" sz="3200" spc="-1" strike="noStrike">
                <a:solidFill>
                  <a:srgbClr val="0000cc"/>
                </a:solidFill>
                <a:latin typeface="Arial L2"/>
              </a:rPr>
              <a:t>Jakou radu bys dal jako otec svým</a:t>
            </a:r>
            <a:br>
              <a:rPr sz="3200"/>
            </a:br>
            <a:r>
              <a:rPr b="1" i="1" lang="cs-CZ" sz="3200" spc="-1" strike="noStrike">
                <a:solidFill>
                  <a:srgbClr val="0000cc"/>
                </a:solidFill>
                <a:latin typeface="Arial L2"/>
              </a:rPr>
              <a:t>dětem do života ?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124080"/>
            <a:ext cx="68580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 L2"/>
              </a:rPr>
              <a:t>Bůh odpověděl s úsměvem :</a:t>
            </a:r>
            <a:r>
              <a:rPr b="1" i="1" lang="en-US" sz="3200" spc="-1" strike="noStrike">
                <a:solidFill>
                  <a:srgbClr val="000000"/>
                </a:solidFill>
                <a:latin typeface="Arial L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„</a:t>
            </a: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Pochopit, že nemohou nikoho donutit, aby je miloval, ale že se mohou udělat takovými, aby byly milovány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609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ff"/>
                </a:solidFill>
                <a:latin typeface="Arial L2"/>
              </a:rPr>
              <a:t>... pochopit, že nejcennější v životě není </a:t>
            </a:r>
            <a:r>
              <a:rPr b="1" i="1" lang="cs-CZ" sz="3600" spc="-1" strike="noStrike" u="sng">
                <a:solidFill>
                  <a:srgbClr val="ffffff"/>
                </a:solidFill>
                <a:uFillTx/>
                <a:latin typeface="Arial L2"/>
              </a:rPr>
              <a:t>co</a:t>
            </a:r>
            <a:r>
              <a:rPr b="1" i="1" lang="cs-CZ" sz="3600" spc="-1" strike="noStrike">
                <a:solidFill>
                  <a:srgbClr val="ffffff"/>
                </a:solidFill>
                <a:latin typeface="Arial L2"/>
              </a:rPr>
              <a:t> mají, ale </a:t>
            </a:r>
            <a:r>
              <a:rPr b="1" i="1" lang="cs-CZ" sz="3600" spc="-1" strike="noStrike" u="sng">
                <a:solidFill>
                  <a:srgbClr val="ffffff"/>
                </a:solidFill>
                <a:uFillTx/>
                <a:latin typeface="Arial L2"/>
              </a:rPr>
              <a:t>koho</a:t>
            </a:r>
            <a:r>
              <a:rPr b="1" i="1" lang="cs-CZ" sz="3600" spc="-1" strike="noStrike">
                <a:solidFill>
                  <a:srgbClr val="ffffff"/>
                </a:solidFill>
                <a:latin typeface="Arial L2"/>
              </a:rPr>
              <a:t> mají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4382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... pochopit, že není nutné ani rozumné, se neustále porovnáv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s druhými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7242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... pochopit, že bohatý není ten, kdo má nejvíce, ale ten kdo potřebuje nejméně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219320"/>
            <a:ext cx="8001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660066"/>
                </a:solidFill>
                <a:latin typeface="Arial L2"/>
              </a:rPr>
              <a:t>.</a:t>
            </a: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.. pochopit, že trvá jen pár vteřin otevřít hlubokou ránu v duši svého bližního, ale že může trvat mnoho let, než se tato rána zahojí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51720" y="4876920"/>
            <a:ext cx="68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... naučit se </a:t>
            </a:r>
            <a:r>
              <a:rPr b="1" i="1" lang="cs-CZ" sz="3600" spc="-1" strike="noStrike" u="sng">
                <a:solidFill>
                  <a:srgbClr val="ff0000"/>
                </a:solidFill>
                <a:uFillTx/>
                <a:latin typeface="Arial L2"/>
              </a:rPr>
              <a:t>opravdu</a:t>
            </a: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 odpouštět</a:t>
            </a:r>
            <a:br>
              <a:rPr sz="3600"/>
            </a:b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 každý den ..</a:t>
            </a: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82800" y="4114800"/>
            <a:ext cx="6361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... uvědomit si, že mají kolem</a:t>
            </a:r>
            <a:br>
              <a:rPr sz="3200"/>
            </a:b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sebe lidi, kteří je opravdu</a:t>
            </a:r>
            <a:br>
              <a:rPr sz="3200"/>
            </a:b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milují, ale kteří neumí dát</a:t>
            </a:r>
            <a:br>
              <a:rPr sz="3200"/>
            </a:b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své city najev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076480" y="2362320"/>
            <a:ext cx="133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Haettenschweiler"/>
              </a:rPr>
              <a:t>... Pochopit, že peníze mohou koupit všechno - jen ne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7:48:33Z</dcterms:created>
  <dc:creator>X</dc:creator>
  <dc:description/>
  <dc:language>en-US</dc:language>
  <cp:lastModifiedBy>           </cp:lastModifiedBy>
  <dcterms:modified xsi:type="dcterms:W3CDTF">2001-05-06T19:13:59Z</dcterms:modified>
  <cp:revision>40</cp:revision>
  <dc:subject/>
  <dc:title>GOD</dc:title>
</cp:coreProperties>
</file>