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69CD8-C158-46E4-9AAE-CDA8B12F2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D0A35-843A-4909-80D8-2A3E91035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52283-0544-470A-893A-4253D7DF3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FED77-B11C-4868-9DF4-3FADFF03D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D8C4E-10CE-4A38-82DE-33ACAC484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2B6E5-E023-487E-958B-987ECF6FC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7170E-3ECD-4C89-BA39-6DFA4F5DC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B47FB-5570-492E-B755-DF24A38ED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33608-288E-46C1-A1B7-0099E005C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1A2BF-28F8-4E19-B896-A570EF0B7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2532F-1346-4E8D-84CB-B10C994AE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A716D-C85E-4098-B0F6-AF69856DF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A6D2E-6B83-4951-99EB-76435EA3A7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50000">
              <a:srgbClr val="ffffff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096280" y="685800"/>
            <a:ext cx="4818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sz="3200" spc="-1" strike="noStrike">
                <a:solidFill>
                  <a:srgbClr val="ffff00"/>
                </a:solidFill>
                <a:latin typeface="Arial L2"/>
              </a:rPr>
              <a:t>www.universe-people.c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59400" y="1676520"/>
            <a:ext cx="524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cc"/>
                </a:solidFill>
                <a:latin typeface="Arial L2"/>
              </a:rPr>
              <a:t>www.universe-people.c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215360" y="2666880"/>
            <a:ext cx="6619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Arial"/>
              </a:rPr>
              <a:t>Skutečným smyslem zrození v lidském těle</a:t>
            </a:r>
            <a:br>
              <a:rPr sz="2400"/>
            </a:br>
            <a:r>
              <a:rPr b="1" lang="cs-CZ" sz="2400" spc="-1" strike="noStrike">
                <a:solidFill>
                  <a:srgbClr val="3333cc"/>
                </a:solidFill>
                <a:latin typeface="Arial"/>
              </a:rPr>
              <a:t>je dojít k poznání Boha,</a:t>
            </a:r>
            <a:br>
              <a:rPr sz="2400"/>
            </a:br>
            <a:r>
              <a:rPr b="1" lang="cs-CZ" sz="2400" spc="-1" strike="noStrike">
                <a:solidFill>
                  <a:srgbClr val="3333cc"/>
                </a:solidFill>
                <a:latin typeface="Arial"/>
              </a:rPr>
              <a:t>a pokud se prostě obrátíme k Bohu,</a:t>
            </a:r>
            <a:br>
              <a:rPr sz="2400"/>
            </a:br>
            <a:r>
              <a:rPr b="1" lang="cs-CZ" sz="2400" spc="-1" strike="noStrike">
                <a:solidFill>
                  <a:srgbClr val="3333cc"/>
                </a:solidFill>
                <a:latin typeface="Arial"/>
              </a:rPr>
              <a:t>zjistíme, že na nás Bůh čekal po celou dobu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942200" y="5562720"/>
            <a:ext cx="513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Arial L2"/>
              </a:rPr>
              <a:t>VÍTAJÍ VÁS VESMÍRNÍ LID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4000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143000" y="4419720"/>
            <a:ext cx="6324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3300"/>
                </a:solidFill>
                <a:latin typeface="Futura XBlk BT"/>
              </a:rPr>
              <a:t>…</a:t>
            </a:r>
            <a:r>
              <a:rPr b="1" i="1" lang="cs-CZ" sz="6000" spc="-1" strike="noStrike">
                <a:solidFill>
                  <a:srgbClr val="ff3300"/>
                </a:solidFill>
                <a:latin typeface="Futura XBlk BT"/>
              </a:rPr>
              <a:t> </a:t>
            </a:r>
            <a:r>
              <a:rPr b="1" i="1" lang="cs-CZ" sz="6000" spc="-1" strike="noStrike">
                <a:solidFill>
                  <a:srgbClr val="ff3300"/>
                </a:solidFill>
                <a:latin typeface="Futura XBlk BT"/>
              </a:rPr>
              <a:t>ŠTĚSTÍ</a:t>
            </a:r>
            <a:r>
              <a:rPr b="1" i="1" lang="en-US" sz="6000" spc="-1" strike="noStrike">
                <a:solidFill>
                  <a:srgbClr val="ff3300"/>
                </a:solidFill>
                <a:latin typeface="Futura XBlk BT"/>
              </a:rPr>
              <a:t> ...!!!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4000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928440" y="557280"/>
            <a:ext cx="7331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cc"/>
                </a:solidFill>
                <a:latin typeface="Arial L2"/>
              </a:rPr>
              <a:t>... pochopit, že dva lidé se mohou</a:t>
            </a:r>
            <a:br>
              <a:rPr sz="3600"/>
            </a:br>
            <a:r>
              <a:rPr b="1" i="1" lang="cs-CZ" sz="3600" spc="-1" strike="noStrike">
                <a:solidFill>
                  <a:srgbClr val="0000cc"/>
                </a:solidFill>
                <a:latin typeface="Arial L2"/>
              </a:rPr>
              <a:t>dívat na stejnou věc a vidět ji</a:t>
            </a:r>
            <a:br>
              <a:rPr sz="3600"/>
            </a:br>
            <a:r>
              <a:rPr b="1" i="1" lang="cs-CZ" sz="3600" spc="-1" strike="noStrike">
                <a:solidFill>
                  <a:srgbClr val="0000cc"/>
                </a:solidFill>
                <a:latin typeface="Arial L2"/>
              </a:rPr>
              <a:t> naprosto odlišně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1000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2023200" y="4672080"/>
            <a:ext cx="6805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ff0000"/>
                </a:solidFill>
                <a:latin typeface="Arial L2"/>
              </a:rPr>
              <a:t>... pochopit, že nestačí jen, aby</a:t>
            </a:r>
            <a:br>
              <a:rPr sz="3600"/>
            </a:br>
            <a:r>
              <a:rPr b="1" i="1" lang="cs-CZ" sz="3600" spc="-1" strike="noStrike">
                <a:solidFill>
                  <a:srgbClr val="ff0000"/>
                </a:solidFill>
                <a:latin typeface="Arial L2"/>
              </a:rPr>
              <a:t>jim odpustili jiní, ale také aby</a:t>
            </a:r>
            <a:br>
              <a:rPr sz="3600"/>
            </a:br>
            <a:r>
              <a:rPr b="1" i="1" lang="cs-CZ" sz="3600" spc="-1" strike="noStrike">
                <a:solidFill>
                  <a:srgbClr val="ff0000"/>
                </a:solidFill>
                <a:latin typeface="Arial L2"/>
              </a:rPr>
              <a:t>ony odpustily samy sobě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4000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380880" y="3657600"/>
            <a:ext cx="830592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ffff00"/>
                </a:solidFill>
                <a:latin typeface="Arial Rounded MT Bold"/>
              </a:rPr>
              <a:t>... uvěřit, že</a:t>
            </a:r>
            <a:r>
              <a:rPr b="1" i="1" lang="en-US" sz="3600" spc="-1" strike="noStrike">
                <a:solidFill>
                  <a:srgbClr val="ffff00"/>
                </a:solidFill>
                <a:latin typeface="Arial Rounded MT Bold"/>
              </a:rPr>
              <a:t> </a:t>
            </a:r>
            <a:r>
              <a:rPr b="1" i="1" lang="cs-CZ" sz="3600" spc="-1" strike="noStrike">
                <a:solidFill>
                  <a:srgbClr val="ffff00"/>
                </a:solidFill>
                <a:latin typeface="Arial Rounded MT Bold"/>
              </a:rPr>
              <a:t>já jsem zde </a:t>
            </a:r>
            <a:br>
              <a:rPr sz="3600"/>
            </a:br>
            <a:br>
              <a:rPr sz="3600"/>
            </a:br>
            <a:r>
              <a:rPr b="1" i="1" lang="en-US" sz="6600" spc="-1" strike="noStrike">
                <a:solidFill>
                  <a:srgbClr val="ffff00"/>
                </a:solidFill>
                <a:latin typeface="Arial Rounded MT Bold"/>
              </a:rPr>
              <a:t>– </a:t>
            </a:r>
            <a:r>
              <a:rPr b="1" i="1" lang="cs-CZ" sz="6600" spc="-1" strike="noStrike">
                <a:solidFill>
                  <a:srgbClr val="ffff00"/>
                </a:solidFill>
                <a:latin typeface="Arial Rounded MT Bold"/>
              </a:rPr>
              <a:t>NAVĚKY – </a:t>
            </a:r>
            <a:r>
              <a:rPr b="1" i="1" lang="cs-CZ" sz="3600" spc="-1" strike="noStrike">
                <a:solidFill>
                  <a:srgbClr val="ffff00"/>
                </a:solidFill>
                <a:latin typeface="Arial Rounded MT Bold"/>
              </a:rPr>
              <a:t>“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6000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01720" y="457200"/>
            <a:ext cx="771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cc00"/>
                </a:solidFill>
                <a:latin typeface="Arial L2"/>
              </a:rPr>
              <a:t>Zdálo se mi, že jsem měl rozhovor s Bohem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600200" y="1295280"/>
            <a:ext cx="685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ff00"/>
                </a:solidFill>
                <a:latin typeface="Arial L2"/>
              </a:rPr>
              <a:t>„</a:t>
            </a:r>
            <a:r>
              <a:rPr b="1" i="1" lang="cs-CZ" sz="2800" spc="-1" strike="noStrike">
                <a:solidFill>
                  <a:srgbClr val="ffff00"/>
                </a:solidFill>
                <a:latin typeface="Arial L2"/>
              </a:rPr>
              <a:t>Takže, Ty bys se mnou rád mluvil ...“</a:t>
            </a:r>
            <a:r>
              <a:rPr b="1" i="1" lang="en-US" sz="2800" spc="-1" strike="noStrike">
                <a:solidFill>
                  <a:srgbClr val="ffff00"/>
                </a:solidFill>
                <a:latin typeface="Arial L2"/>
              </a:rPr>
              <a:t> </a:t>
            </a:r>
            <a:r>
              <a:rPr b="1" i="1" lang="cs-CZ" sz="2800" spc="-1" strike="noStrike">
                <a:solidFill>
                  <a:srgbClr val="ffff00"/>
                </a:solidFill>
                <a:latin typeface="Arial L2"/>
              </a:rPr>
              <a:t>zeptal se Bůh</a:t>
            </a:r>
            <a:r>
              <a:rPr b="1" i="1" lang="en-US" sz="2800" spc="-1" strike="noStrike">
                <a:solidFill>
                  <a:srgbClr val="ffff00"/>
                </a:solidFill>
                <a:latin typeface="Arial L2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554120" y="2590920"/>
            <a:ext cx="620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ccff"/>
                </a:solidFill>
                <a:latin typeface="Arial L2"/>
              </a:rPr>
              <a:t>„</a:t>
            </a:r>
            <a:r>
              <a:rPr b="1" i="1" lang="cs-CZ" sz="2800" spc="-1" strike="noStrike">
                <a:solidFill>
                  <a:srgbClr val="ffccff"/>
                </a:solidFill>
                <a:latin typeface="Arial L2"/>
              </a:rPr>
              <a:t>Pokud máš čas ...“ odpověděl jse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143000" y="3429000"/>
            <a:ext cx="754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ff00"/>
                </a:solidFill>
                <a:latin typeface="Arial L2"/>
              </a:rPr>
              <a:t>Bůh se usmál : „Můj čas je věčnost – na co by ses mne chtěl zeptat ?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415160" y="6019920"/>
            <a:ext cx="653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Arial L2"/>
              </a:rPr>
              <a:t>„</a:t>
            </a:r>
            <a:r>
              <a:rPr b="1" i="1" lang="cs-CZ" sz="2800" spc="-1" strike="noStrike">
                <a:solidFill>
                  <a:srgbClr val="ff0000"/>
                </a:solidFill>
                <a:latin typeface="Arial L2"/>
              </a:rPr>
              <a:t>Co Tě nejvíce překvapuje na lidech ?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8000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artsunbreak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914400" y="2514600"/>
            <a:ext cx="7391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600" spc="-1" strike="noStrike">
                <a:solidFill>
                  <a:srgbClr val="ffffff"/>
                </a:solidFill>
                <a:latin typeface="Arial L2"/>
              </a:rPr>
              <a:t>Bůh odpověděl ..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9000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52280" y="152280"/>
            <a:ext cx="815364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„</a:t>
            </a:r>
            <a:r>
              <a:rPr b="1" i="1" lang="cs-CZ" sz="3000" spc="-1" strike="noStrike">
                <a:solidFill>
                  <a:srgbClr val="000000"/>
                </a:solidFill>
                <a:latin typeface="Arial L2"/>
              </a:rPr>
              <a:t>To, že jak usilovně </a:t>
            </a:r>
            <a:r>
              <a:rPr b="1" i="1" lang="en-US" sz="3000" spc="-1" strike="noStrike">
                <a:solidFill>
                  <a:srgbClr val="000000"/>
                </a:solidFill>
                <a:latin typeface="Arial L2"/>
              </a:rPr>
              <a:t> </a:t>
            </a:r>
            <a:r>
              <a:rPr b="1" i="1" lang="cs-CZ" sz="3000" spc="-1" strike="noStrike">
                <a:solidFill>
                  <a:srgbClr val="000000"/>
                </a:solidFill>
                <a:latin typeface="Arial L2"/>
              </a:rPr>
              <a:t>přemýšlejí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000" spc="-1" strike="noStrike">
                <a:solidFill>
                  <a:srgbClr val="000000"/>
                </a:solidFill>
                <a:latin typeface="Arial L2"/>
              </a:rPr>
              <a:t>o budoucnosti, zapomínají na přítomnost, a tak vlastně nežijí ani v současnosti a ani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000" spc="-1" strike="noStrike">
                <a:solidFill>
                  <a:srgbClr val="000000"/>
                </a:solidFill>
                <a:latin typeface="Arial L2"/>
              </a:rPr>
              <a:t>v budoucnosti ..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28600" y="2209680"/>
            <a:ext cx="7772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0000"/>
                </a:solidFill>
                <a:latin typeface="Arial L2"/>
              </a:rPr>
              <a:t>	</a:t>
            </a:r>
            <a:r>
              <a:rPr b="1" i="1" lang="cs-CZ" sz="3000" spc="-1" strike="noStrike">
                <a:solidFill>
                  <a:srgbClr val="ff0000"/>
                </a:solidFill>
                <a:latin typeface="Arial L2"/>
              </a:rPr>
              <a:t>... že žijí jako by neměli nikdy umřít a umírají, jako by nikdy ani nežili ..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52280" y="3352680"/>
            <a:ext cx="899172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cc00"/>
                </a:solidFill>
                <a:latin typeface="Arial L2"/>
              </a:rPr>
              <a:t>	</a:t>
            </a:r>
            <a:r>
              <a:rPr b="1" i="1" lang="cs-CZ" sz="3000" spc="-1" strike="noStrike">
                <a:solidFill>
                  <a:srgbClr val="00cc00"/>
                </a:solidFill>
                <a:latin typeface="Arial L2"/>
              </a:rPr>
              <a:t>... že jsou brzy znuděni dětstvím a spěchají do dospělosti, a potom se opět touží vrátit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000" spc="-1" strike="noStrike">
                <a:solidFill>
                  <a:srgbClr val="00cc00"/>
                </a:solidFill>
                <a:latin typeface="Arial L2"/>
              </a:rPr>
              <a:t>do dětství ..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" y="4952880"/>
            <a:ext cx="89154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cc"/>
                </a:solidFill>
                <a:latin typeface="Arial L2"/>
              </a:rPr>
              <a:t>	</a:t>
            </a:r>
            <a:r>
              <a:rPr b="1" i="1" lang="cs-CZ" sz="3000" spc="-1" strike="noStrike">
                <a:solidFill>
                  <a:srgbClr val="0000cc"/>
                </a:solidFill>
                <a:latin typeface="Arial L2"/>
              </a:rPr>
              <a:t>... že přicházejí o zdraví při shromažďování bohatství a potom přicházejí o bohatství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000" spc="-1" strike="noStrike">
                <a:solidFill>
                  <a:srgbClr val="0000cc"/>
                </a:solidFill>
                <a:latin typeface="Arial L2"/>
              </a:rPr>
              <a:t>ve snaze si zdraví opět spravit ..</a:t>
            </a:r>
            <a:r>
              <a:rPr b="1" i="1" lang="en-US" sz="3000" spc="-1" strike="noStrike">
                <a:solidFill>
                  <a:srgbClr val="0000cc"/>
                </a:solidFill>
                <a:latin typeface="Arial L2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28000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877320" y="210960"/>
            <a:ext cx="71607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Arial L2"/>
              </a:rPr>
              <a:t>Bůh mne uchopil za ruku, chvíli jsme</a:t>
            </a:r>
            <a:br>
              <a:rPr sz="3200"/>
            </a:br>
            <a:r>
              <a:rPr b="1" i="1" lang="cs-CZ" sz="3200" spc="-1" strike="noStrike">
                <a:solidFill>
                  <a:srgbClr val="000000"/>
                </a:solidFill>
                <a:latin typeface="Arial L2"/>
              </a:rPr>
              <a:t>mlčeli a potom </a:t>
            </a:r>
            <a:r>
              <a:rPr b="1" i="1" lang="en-US" sz="3200" spc="-1" strike="noStrike">
                <a:solidFill>
                  <a:srgbClr val="000000"/>
                </a:solidFill>
                <a:latin typeface="Arial L2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Arial L2"/>
              </a:rPr>
              <a:t>jsem se zeptal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cc"/>
                </a:solidFill>
                <a:latin typeface="Arial L2"/>
              </a:rPr>
              <a:t>„</a:t>
            </a:r>
            <a:r>
              <a:rPr b="1" i="1" lang="cs-CZ" sz="3200" spc="-1" strike="noStrike">
                <a:solidFill>
                  <a:srgbClr val="0000cc"/>
                </a:solidFill>
                <a:latin typeface="Arial L2"/>
              </a:rPr>
              <a:t>Jakou radu bys dal jako otec svým</a:t>
            </a:r>
            <a:br>
              <a:rPr sz="3200"/>
            </a:br>
            <a:r>
              <a:rPr b="1" i="1" lang="cs-CZ" sz="3200" spc="-1" strike="noStrike">
                <a:solidFill>
                  <a:srgbClr val="0000cc"/>
                </a:solidFill>
                <a:latin typeface="Arial L2"/>
              </a:rPr>
              <a:t>dětem do života ?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66680" y="3124080"/>
            <a:ext cx="6858000" cy="27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ffff"/>
                </a:solidFill>
                <a:latin typeface="Arial L2"/>
              </a:rPr>
              <a:t>Bůh odpověděl s úsměvem :</a:t>
            </a:r>
            <a:r>
              <a:rPr b="1" i="1" lang="en-US" sz="3200" spc="-1" strike="noStrike">
                <a:solidFill>
                  <a:srgbClr val="000000"/>
                </a:solidFill>
                <a:latin typeface="Arial L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ff00"/>
                </a:solidFill>
                <a:latin typeface="Arial L2"/>
              </a:rPr>
              <a:t>„</a:t>
            </a:r>
            <a:r>
              <a:rPr b="1" i="1" lang="cs-CZ" sz="3200" spc="-1" strike="noStrike">
                <a:solidFill>
                  <a:srgbClr val="ffff00"/>
                </a:solidFill>
                <a:latin typeface="Arial L2"/>
              </a:rPr>
              <a:t>Pochopit, že nemohou nikoho donutit, aby je miloval, ale že se mohou udělat takovými, aby byly milovány 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26000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457200" y="60948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ffffff"/>
                </a:solidFill>
                <a:latin typeface="Arial L2"/>
              </a:rPr>
              <a:t>... pochopit, že nejcennější v životě není </a:t>
            </a:r>
            <a:r>
              <a:rPr b="1" i="1" lang="cs-CZ" sz="3600" spc="-1" strike="noStrike" u="sng">
                <a:solidFill>
                  <a:srgbClr val="ffffff"/>
                </a:solidFill>
                <a:uFillTx/>
                <a:latin typeface="Arial L2"/>
              </a:rPr>
              <a:t>co</a:t>
            </a:r>
            <a:r>
              <a:rPr b="1" i="1" lang="cs-CZ" sz="3600" spc="-1" strike="noStrike">
                <a:solidFill>
                  <a:srgbClr val="ffffff"/>
                </a:solidFill>
                <a:latin typeface="Arial L2"/>
              </a:rPr>
              <a:t> mají, ale </a:t>
            </a:r>
            <a:r>
              <a:rPr b="1" i="1" lang="cs-CZ" sz="3600" spc="-1" strike="noStrike" u="sng">
                <a:solidFill>
                  <a:srgbClr val="ffffff"/>
                </a:solidFill>
                <a:uFillTx/>
                <a:latin typeface="Arial L2"/>
              </a:rPr>
              <a:t>koho</a:t>
            </a:r>
            <a:r>
              <a:rPr b="1" i="1" lang="cs-CZ" sz="3600" spc="-1" strike="noStrike">
                <a:solidFill>
                  <a:srgbClr val="ffffff"/>
                </a:solidFill>
                <a:latin typeface="Arial L2"/>
              </a:rPr>
              <a:t> mají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33520" y="2438280"/>
            <a:ext cx="8076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cc"/>
                </a:solidFill>
                <a:latin typeface="Arial L2"/>
              </a:rPr>
              <a:t>... pochopit, že není nutné ani rozumné, se neustále porovnávat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cc"/>
                </a:solidFill>
                <a:latin typeface="Arial L2"/>
              </a:rPr>
              <a:t>s druhými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85800" y="4724280"/>
            <a:ext cx="8001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ff0000"/>
                </a:solidFill>
                <a:latin typeface="Arial L2"/>
              </a:rPr>
              <a:t>... pochopit, že bohatý není ten, kdo má nejvíce, ale ten kdo potřebuje nejméně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9000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533520" y="1219320"/>
            <a:ext cx="8001000" cy="2288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ff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660066"/>
                </a:solidFill>
                <a:latin typeface="Arial L2"/>
              </a:rPr>
              <a:t>.</a:t>
            </a:r>
            <a:r>
              <a:rPr b="1" i="1" lang="cs-CZ" sz="3600" spc="-1" strike="noStrike">
                <a:solidFill>
                  <a:srgbClr val="0000cc"/>
                </a:solidFill>
                <a:latin typeface="Arial L2"/>
              </a:rPr>
              <a:t>.. pochopit, že trvá jen pár vteřin otevřít hlubokou ránu v duši svého bližního, ale že může trvat mnoho let, než se tato rána zahojí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251720" y="4876920"/>
            <a:ext cx="687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ff0000"/>
                </a:solidFill>
                <a:latin typeface="Arial L2"/>
              </a:rPr>
              <a:t>... naučit se </a:t>
            </a:r>
            <a:r>
              <a:rPr b="1" i="1" lang="cs-CZ" sz="3600" spc="-1" strike="noStrike" u="sng">
                <a:solidFill>
                  <a:srgbClr val="ff0000"/>
                </a:solidFill>
                <a:uFillTx/>
                <a:latin typeface="Arial L2"/>
              </a:rPr>
              <a:t>opravdu</a:t>
            </a:r>
            <a:r>
              <a:rPr b="1" i="1" lang="cs-CZ" sz="3600" spc="-1" strike="noStrike">
                <a:solidFill>
                  <a:srgbClr val="ff0000"/>
                </a:solidFill>
                <a:latin typeface="Arial L2"/>
              </a:rPr>
              <a:t> odpouštět</a:t>
            </a:r>
            <a:br>
              <a:rPr sz="3600"/>
            </a:br>
            <a:r>
              <a:rPr b="1" i="1" lang="cs-CZ" sz="3600" spc="-1" strike="noStrike">
                <a:solidFill>
                  <a:srgbClr val="ff0000"/>
                </a:solidFill>
                <a:latin typeface="Arial L2"/>
              </a:rPr>
              <a:t> každý den ..</a:t>
            </a:r>
            <a:r>
              <a:rPr b="1" i="1" lang="cs-CZ" sz="3600" spc="-1" strike="noStrike">
                <a:solidFill>
                  <a:srgbClr val="ff0000"/>
                </a:solidFill>
                <a:latin typeface="Arial L2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4000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2782800" y="4114800"/>
            <a:ext cx="63612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ff00"/>
                </a:solidFill>
                <a:latin typeface="Arial L2"/>
              </a:rPr>
              <a:t>... uvědomit si, že mají kolem</a:t>
            </a:r>
            <a:br>
              <a:rPr sz="3200"/>
            </a:br>
            <a:r>
              <a:rPr b="1" i="1" lang="cs-CZ" sz="3200" spc="-1" strike="noStrike">
                <a:solidFill>
                  <a:srgbClr val="ffff00"/>
                </a:solidFill>
                <a:latin typeface="Arial L2"/>
              </a:rPr>
              <a:t>sebe lidi, kteří je opravdu</a:t>
            </a:r>
            <a:br>
              <a:rPr sz="3200"/>
            </a:br>
            <a:r>
              <a:rPr b="1" i="1" lang="cs-CZ" sz="3200" spc="-1" strike="noStrike">
                <a:solidFill>
                  <a:srgbClr val="ffff00"/>
                </a:solidFill>
                <a:latin typeface="Arial L2"/>
              </a:rPr>
              <a:t>milují, ale kteří neumí dát</a:t>
            </a:r>
            <a:br>
              <a:rPr sz="3200"/>
            </a:br>
            <a:r>
              <a:rPr b="1" i="1" lang="cs-CZ" sz="3200" spc="-1" strike="noStrike">
                <a:solidFill>
                  <a:srgbClr val="ffff00"/>
                </a:solidFill>
                <a:latin typeface="Arial L2"/>
              </a:rPr>
              <a:t>své city najevo 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9000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-2076480" y="2362320"/>
            <a:ext cx="13348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Haettenschweiler"/>
              </a:rPr>
              <a:t>... Pochopit, že peníze mohou koupit všechno - jen ne 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5000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7:48:33Z</dcterms:created>
  <dc:creator>X</dc:creator>
  <dc:description/>
  <dc:language>en-US</dc:language>
  <cp:lastModifiedBy>           </cp:lastModifiedBy>
  <dcterms:modified xsi:type="dcterms:W3CDTF">2001-05-06T19:13:59Z</dcterms:modified>
  <cp:revision>40</cp:revision>
  <dc:subject/>
  <dc:title>GOD</dc:title>
</cp:coreProperties>
</file>